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292-4F68-493D-BC78-B1886463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7AF-A8F9-44F1-9BC5-A9973C1D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D73-66F6-4505-8721-444A0197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AF4-4B4B-45B2-B409-16220B19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E72-21A6-4BAB-9481-4AAC7676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162-2254-43B0-A1F4-E93CF6B9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C4F-999B-4F0B-909C-8756944E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2BC-2EAA-419C-B4C4-52582528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F5C-5350-4618-9B2A-57CC2F3C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769-10EB-4612-9C19-E9406A53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30B-D840-4FFE-A5C4-A1AB3FE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570-5726-4A74-929B-99E5887A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1FBA-2CB4-4424-9C22-2DC0884A0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4.2: polynomial functions and models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2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graphs of polynomi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nd graph piecewise defined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g Ruckus AOE"/>
              </a:rPr>
              <a:t>Understand the graphs of polynomial functions.</a:t>
            </a:r>
            <a:endParaRPr b="1" lang="en-US" sz="40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, x-intercepts and turning po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olynomial has a degree n, whe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1, then it h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 most, n x-inter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 most, n-1 turning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g Ruckus AOE"/>
              </a:rPr>
              <a:t>Understand the graphs of polynomial functions. (page 2)</a:t>
            </a:r>
            <a:endParaRPr b="1" lang="en-US" sz="40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t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even and n ≥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gt;0.. The graph rises both to the left and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lt;0… the graph falls both to the left and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5089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81280" y="44863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400800" y="441000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ig Ruckus AOE"/>
              </a:rPr>
              <a:t>Understand the graphs of polynomial functions. (page 3)</a:t>
            </a:r>
            <a:endParaRPr b="1" lang="en-US" sz="40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odd and n ≥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gt;0.. The graph falls to the left and rises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&lt;0… the graph rises to the left and falls to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5812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172200" y="39625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What is the degree and what is the sign of a?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5800" y="2398680"/>
            <a:ext cx="3962520" cy="378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876920" y="2438280"/>
            <a:ext cx="38098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Evaluate and graph piecewise defined functions.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piecewise linear fun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very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: no breaks in the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: find the solution at the given value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f(x) = ?: solve for y at this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Evaluate and graph piecewise defined functions.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{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5 if 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x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2x-1 if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x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-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1) i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x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t x= -1, 0, 1,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f(x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0338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ig Ruckus AOE"/>
              </a:rPr>
              <a:t>Your assignment</a:t>
            </a:r>
            <a:endParaRPr b="1" lang="en-US" sz="4400" spc="-1" strike="noStrike">
              <a:solidFill>
                <a:srgbClr val="000000"/>
              </a:solidFill>
              <a:latin typeface="Big Ruckus AO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68- 2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12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-80 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8:10:00Z</dcterms:created>
  <dc:creator>nuhs</dc:creator>
  <dc:description/>
  <dc:language>en-US</dc:language>
  <cp:lastModifiedBy>nuhs</cp:lastModifiedBy>
  <dcterms:modified xsi:type="dcterms:W3CDTF">2008-02-12T20:52:37Z</dcterms:modified>
  <cp:revision>5</cp:revision>
  <dc:subject/>
  <dc:title>4.2: polynomial functions and models</dc:title>
</cp:coreProperties>
</file>